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977D-5842-4D0C-BFB9-708610CA2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B273-922C-46A9-AD1E-9FBE82658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D6F-60D1-4F81-9F32-F1EC7DD5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BAB-5815-467F-B5AC-0E32BC9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816-3E11-46C8-97FF-1D197368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0D7-1D31-4D39-B1B9-CA25C3E5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935-70E0-44B8-9F2A-420691EA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ECB-A5C1-4445-ABD9-8374747A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730-2875-4980-A49D-53C21A0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ADD-87F7-4ED3-A7F7-D677EBD4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12D-950B-4403-8FD5-292BC40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391-80AA-40DE-8FA7-0541A3D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86E-256A-4464-ACB5-D57A7CC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692-63B5-4E91-9EDA-AB90A09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1064-2773-44DC-B7E0-7DE47C60FC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97B9-F8D4-4CB6-A860-2A243FF6F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img3.proshkolu.ru/content/media/pic/std/2000000/1888000/1887252-d21e4641159ad07f.png"/>
          <p:cNvPicPr/>
          <p:nvPr/>
        </p:nvPicPr>
        <p:blipFill>
          <a:blip r:embed="rId1"/>
          <a:stretch/>
        </p:blipFill>
        <p:spPr>
          <a:xfrm>
            <a:off x="-23760" y="-85680"/>
            <a:ext cx="9246960" cy="69436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-378000" y="-1152360"/>
            <a:ext cx="9955440" cy="292068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A6D1-0EEF-48BE-BB59-6E9FA6558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1" descr=""/>
          <p:cNvPicPr/>
          <p:nvPr/>
        </p:nvPicPr>
        <p:blipFill>
          <a:blip r:embed="rId3"/>
          <a:stretch/>
        </p:blipFill>
        <p:spPr>
          <a:xfrm>
            <a:off x="2620800" y="5541840"/>
            <a:ext cx="5115240" cy="156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905520" y="4005360"/>
            <a:ext cx="21700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ktyz.ru/static/up/images/text/0097/lisa.jpg"/>
          <p:cNvPicPr/>
          <p:nvPr/>
        </p:nvPicPr>
        <p:blipFill>
          <a:blip r:embed="rId1"/>
          <a:stretch/>
        </p:blipFill>
        <p:spPr>
          <a:xfrm>
            <a:off x="2556000" y="2997360"/>
            <a:ext cx="3528720" cy="3744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оверяем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+2+7=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19-9-8=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2-7=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6+4+9=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+1+6=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16-6-7=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EE7-0E81-4F1F-A7A8-B268AFD90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stat18.privet.ru/lr/0a30f8223e2c031ca9cf6d7f45ff71cd"/>
          <p:cNvPicPr/>
          <p:nvPr/>
        </p:nvPicPr>
        <p:blipFill>
          <a:blip r:embed="rId1"/>
          <a:stretch/>
        </p:blipFill>
        <p:spPr>
          <a:xfrm>
            <a:off x="2071800" y="1643040"/>
            <a:ext cx="5456160" cy="448632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2D69-BE7B-4A74-B972-10EDA7AFF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.allday.ru/uploads/posts/2010-09/1285654870_1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037E-208F-41E2-A669-4A63E202A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Иллюстрации к сказке Колоб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D5B8-9A9B-4B94-8E36-667C9C128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Иллюстрации к сказке Колобок"/>
          <p:cNvPicPr/>
          <p:nvPr/>
        </p:nvPicPr>
        <p:blipFill>
          <a:blip r:embed="rId1"/>
          <a:srcRect l="0" t="11556" r="1247" b="47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D078-816C-4DC4-99BF-2E19234D7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Иллюстрации к сказке Колобок"/>
          <p:cNvPicPr/>
          <p:nvPr/>
        </p:nvPicPr>
        <p:blipFill>
          <a:blip r:embed="rId1"/>
          <a:srcRect l="0" t="0" r="0" b="5009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906-DF7B-4227-8A8C-FB7EDFEA8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Иллюстрации к сказке Колобок"/>
          <p:cNvPicPr/>
          <p:nvPr/>
        </p:nvPicPr>
        <p:blipFill>
          <a:blip r:embed="rId1"/>
          <a:srcRect l="0" t="0" r="1247" b="84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E5AB-48E5-4070-A486-DAC517CF8D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img3.proshkolu.ru/content/media/pic/std/2000000/1888000/1887252-d21e4641159ad07f.pn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stat18.privet.ru/lr/0a30f8223e2c031ca9cf6d7f45ff71cd"/>
          <p:cNvPicPr/>
          <p:nvPr/>
        </p:nvPicPr>
        <p:blipFill>
          <a:blip r:embed="rId2"/>
          <a:stretch/>
        </p:blipFill>
        <p:spPr>
          <a:xfrm>
            <a:off x="5284800" y="3498840"/>
            <a:ext cx="2170080" cy="190836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21E1-8596-4502-8CD0-106FFE020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06B-714D-40DE-A587-3905CDDA1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Иллюстрации к сказке Колобок"/>
          <p:cNvPicPr/>
          <p:nvPr/>
        </p:nvPicPr>
        <p:blipFill>
          <a:blip r:embed="rId1"/>
          <a:srcRect l="1247" t="9610" r="0" b="0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Иллюстрации к сказке Колобок"/>
          <p:cNvPicPr/>
          <p:nvPr/>
        </p:nvPicPr>
        <p:blipFill>
          <a:blip r:embed="rId1"/>
          <a:srcRect l="0" t="0" r="1247" b="3965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.62 №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36D-9128-41A5-9E1A-D18524466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3:04:18Z</dcterms:created>
  <dc:creator>Пользователь</dc:creator>
  <dc:description/>
  <dc:language>en-US</dc:language>
  <cp:lastModifiedBy>Дмитрий Каленюк</cp:lastModifiedBy>
  <dcterms:modified xsi:type="dcterms:W3CDTF">2018-03-06T16:51:15Z</dcterms:modified>
  <cp:revision>37</cp:revision>
  <dc:subject/>
  <dc:title>По математике в 1 классе</dc:title>
</cp:coreProperties>
</file>