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1A69-1E3C-45D2-82D7-A9B8F706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9A4-4198-4183-8DDA-36C79109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7A3-4EE1-43F2-AF4E-EC60AD71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E30-46E0-4AFF-AC2F-C89E262B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B0A4-F422-4917-904C-7D1F86F2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1F24-0C0A-4660-8FC9-D4FE4AA1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9190-A196-4F92-8BCE-1A4AF8D2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612-4EF2-4FFB-AE47-7B69906E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F3D-ED71-4691-BBE3-F2145367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E3B8-5492-42BF-BC53-487F66B7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9BFF-7644-4AAD-A068-88362667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EB6-4E61-47D3-96F8-006DEBD4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415B30-B5EF-4D46-9759-1AA2337367E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8640"/>
            <a:ext cx="777204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15 самых высоких зданий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в мире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4" descr="samye_vysokie_zdaniy_v_mire1"/>
          <p:cNvPicPr/>
          <p:nvPr/>
        </p:nvPicPr>
        <p:blipFill>
          <a:blip r:embed="rId1"/>
          <a:stretch/>
        </p:blipFill>
        <p:spPr>
          <a:xfrm>
            <a:off x="323640" y="1917000"/>
            <a:ext cx="2016000" cy="4176000"/>
          </a:xfrm>
          <a:prstGeom prst="rect">
            <a:avLst/>
          </a:prstGeom>
          <a:ln w="9525">
            <a:noFill/>
          </a:ln>
        </p:spPr>
      </p:pic>
      <p:pic>
        <p:nvPicPr>
          <p:cNvPr id="43" name="Рисунок 6" descr="Zifeng-Tower_ttrbnv"/>
          <p:cNvPicPr/>
          <p:nvPr/>
        </p:nvPicPr>
        <p:blipFill>
          <a:blip r:embed="rId2"/>
          <a:stretch/>
        </p:blipFill>
        <p:spPr>
          <a:xfrm>
            <a:off x="6876360" y="1917000"/>
            <a:ext cx="1944000" cy="4176000"/>
          </a:xfrm>
          <a:prstGeom prst="rect">
            <a:avLst/>
          </a:prstGeom>
          <a:ln w="9525">
            <a:noFill/>
          </a:ln>
        </p:spPr>
      </p:pic>
      <p:pic>
        <p:nvPicPr>
          <p:cNvPr id="44" name="Рисунок 7" descr="Taipei-101_gfallo877"/>
          <p:cNvPicPr/>
          <p:nvPr/>
        </p:nvPicPr>
        <p:blipFill>
          <a:blip r:embed="rId3"/>
          <a:stretch/>
        </p:blipFill>
        <p:spPr>
          <a:xfrm>
            <a:off x="2627640" y="2781000"/>
            <a:ext cx="3960000" cy="273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640" y="188640"/>
            <a:ext cx="856872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8. Башни Петронас – Куала-Лумпур, Малайзия. Высота 451,9 метров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4" descr="Petronas-Tower-2_fg432"/>
          <p:cNvPicPr/>
          <p:nvPr/>
        </p:nvPicPr>
        <p:blipFill>
          <a:blip r:embed="rId1"/>
          <a:stretch/>
        </p:blipFill>
        <p:spPr>
          <a:xfrm>
            <a:off x="5220000" y="1268640"/>
            <a:ext cx="3627720" cy="4968360"/>
          </a:xfrm>
          <a:prstGeom prst="rect">
            <a:avLst/>
          </a:prstGeom>
          <a:ln w="9525">
            <a:noFill/>
          </a:ln>
        </p:spPr>
      </p:pic>
      <p:sp>
        <p:nvSpPr>
          <p:cNvPr id="69" name="TextBox 2"/>
          <p:cNvSpPr/>
          <p:nvPr/>
        </p:nvSpPr>
        <p:spPr>
          <a:xfrm>
            <a:off x="251640" y="1268640"/>
            <a:ext cx="4680000" cy="61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 1998 по 2004 год, башни-близнецы Петронас считались самыми высокими зданиями в мире. Сумма проекта составила более 800 миллионов долларов. Сейчас помещения зданий арендуют многие крупные корпорации — агентство Reuters, корпорация Microsoft, компания Aveva и другие. Здесь также находятся элитные торговые заведения, есть художественная галерея, аквариум и научный цент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ма конструкция здания уникальна, в мире больше нет небоскрёбов построенных по технологии башен Петронас. Большинство высокоэтажных зданий воздвигают из стали и стекла, но для Малайзии стоимость высококачественной стали была очень высока и инженерам пришлось искать другой путь решения пробл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итоге был разработан высокотехнологичный и эластичный бетон, из которого и построили башни. Специалисты тщательно следили за качеством материала и однажды, во время плановых замеров обнаружили малейшую погрешность в качестве бетона. Строителям пришлось полностью разобрать один этаж здания и выстроить его по но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7640" y="19800"/>
            <a:ext cx="85687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7. Международный коммерческий центр - Гонконг. Высота 484 метра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4" descr="International-Commerce-Center_kkuy1982"/>
          <p:cNvPicPr/>
          <p:nvPr/>
        </p:nvPicPr>
        <p:blipFill>
          <a:blip r:embed="rId1"/>
          <a:stretch/>
        </p:blipFill>
        <p:spPr>
          <a:xfrm>
            <a:off x="179640" y="1340640"/>
            <a:ext cx="4176000" cy="5112360"/>
          </a:xfrm>
          <a:prstGeom prst="rect">
            <a:avLst/>
          </a:prstGeom>
          <a:ln w="9525">
            <a:noFill/>
          </a:ln>
        </p:spPr>
      </p:pic>
      <p:sp>
        <p:nvSpPr>
          <p:cNvPr id="72" name="TextBox 2"/>
          <p:cNvSpPr/>
          <p:nvPr/>
        </p:nvSpPr>
        <p:spPr>
          <a:xfrm>
            <a:off x="4572000" y="1340640"/>
            <a:ext cx="4320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т 118 этажный небоскрёб возвышается на 484 метра. После 8 лет строительства, постройка здания была завершена в 2010 году и на данный момент, международный коммерческий центр является самым высоким зданием в Гонконге и четвёртым по высоте зданием в Кита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хние этажи небоскрёба занимает пятизвёздочный отель Ritz-Carlton, находящийся на высоте 425 метров, что делает его самым высоким отелем на планете. В здании также имеется самый высокий в мире бассейн, расположенный на 118 эта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640" y="109440"/>
            <a:ext cx="8568720" cy="166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6. Шанхайский Всемирный финансовый центр. Высота 492 метра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4" descr="Shanghai-World-Finance-Center_ietyyrr"/>
          <p:cNvPicPr/>
          <p:nvPr/>
        </p:nvPicPr>
        <p:blipFill>
          <a:blip r:embed="rId1"/>
          <a:stretch/>
        </p:blipFill>
        <p:spPr>
          <a:xfrm>
            <a:off x="5652000" y="2133000"/>
            <a:ext cx="3168000" cy="4392000"/>
          </a:xfrm>
          <a:prstGeom prst="rect">
            <a:avLst/>
          </a:prstGeom>
          <a:ln w="9525">
            <a:noFill/>
          </a:ln>
        </p:spPr>
      </p:pic>
      <p:sp>
        <p:nvSpPr>
          <p:cNvPr id="75" name="TextBox 2"/>
          <p:cNvSpPr/>
          <p:nvPr/>
        </p:nvSpPr>
        <p:spPr>
          <a:xfrm>
            <a:off x="539640" y="2061000"/>
            <a:ext cx="475200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роенный за 1, 2 миллиарда долларов, Шанхайский Всемирный финансовый центр – это многофункциональный небоскрёб, в котором находятся офисные помещения, музей, отель, многоярусная парковка. Строительство центра было завершено в 2008 году, и на тот момент здание считалось вторым по высоте строением в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боскреб прошел проверки на сейсмоустойчивость и способен выдержать подземные толчки до 7 баллов по шкале Рихтера. Также в здании находится самая высокая смотровая площадка в мире, расположенная на высоте 472 метра над поверхностью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640" y="188640"/>
            <a:ext cx="8640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5. Тайбэй 101 – Тайбэй, Тайвань. Высота 509,2 метра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4" descr="Taipei-101_gfallo877"/>
          <p:cNvPicPr/>
          <p:nvPr/>
        </p:nvPicPr>
        <p:blipFill>
          <a:blip r:embed="rId1"/>
          <a:stretch/>
        </p:blipFill>
        <p:spPr>
          <a:xfrm>
            <a:off x="251640" y="1484640"/>
            <a:ext cx="3888000" cy="5256360"/>
          </a:xfrm>
          <a:prstGeom prst="rect">
            <a:avLst/>
          </a:prstGeom>
          <a:ln w="9525">
            <a:noFill/>
          </a:ln>
        </p:spPr>
      </p:pic>
      <p:sp>
        <p:nvSpPr>
          <p:cNvPr id="78" name="TextBox 2"/>
          <p:cNvSpPr/>
          <p:nvPr/>
        </p:nvSpPr>
        <p:spPr>
          <a:xfrm>
            <a:off x="4368600" y="1361160"/>
            <a:ext cx="4536000" cy="52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фициальная эксплуатация небоскрёба Тайбэй 101 началась 31 декабря 2003 года и это здание – самое устойчивое и неподверженное природным катаклизмам строение, когда-либо созданное человеком. Башня способна противостоять порывам ветра до 60 м/с (216 км/ч) и сильнейшим землетрясениям, которые происходят в этом регионе раз в 2.500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небоскрёбе 101 наземный этаж, и пять этажей под землёй. На первых четырёх этажах располагаются различные торговые точки, на 5 и 6 этажах расположился престижный фитнесс-центр, с 7 по 84 занимают различные офисные помещения, 85-86 арендуют рестораны и каф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данию принадлежит несколько рекордов: самый быстрый лифт в мире, способный доставить посетителей с пятого этажа на 89, на смотровую площадку всего за 39 секунд (скорость лифта 16,83 м/с), крупнейшее в мире табло обратного отсчёта, которое включается на Новый Год и самые высокие в мире солнечные ча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640" y="404640"/>
            <a:ext cx="8712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4. Центр международной торговли – Нью-Йорк, США. Высота 541 метр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4" descr="One-World-Trade-Center_561988cvfg"/>
          <p:cNvPicPr/>
          <p:nvPr/>
        </p:nvPicPr>
        <p:blipFill>
          <a:blip r:embed="rId1"/>
          <a:stretch/>
        </p:blipFill>
        <p:spPr>
          <a:xfrm>
            <a:off x="4155480" y="1628640"/>
            <a:ext cx="4608000" cy="4896360"/>
          </a:xfrm>
          <a:prstGeom prst="rect">
            <a:avLst/>
          </a:prstGeom>
          <a:ln w="9525">
            <a:noFill/>
          </a:ln>
        </p:spPr>
      </p:pic>
      <p:sp>
        <p:nvSpPr>
          <p:cNvPr id="81" name="TextBox 2"/>
          <p:cNvSpPr/>
          <p:nvPr/>
        </p:nvSpPr>
        <p:spPr>
          <a:xfrm>
            <a:off x="467640" y="1484640"/>
            <a:ext cx="3528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оительство Центра международной торговли, или как его ещё называют Башни Свободы, было полностью завершено в 2013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дание стоит на месте уничтоженного террористами Всемирного торгового центр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Этот 104-этажный небоскреб- самое высокое сооружение в США и четвертое по высоте здание в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оимость строительства составила баснословные 3,9 миллиарда долла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640" y="548640"/>
            <a:ext cx="8640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3. Отель «Королевская часовая башня» — Мекка, Саудовская Аравия.  Высота 601 метр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4" descr="Makkah-Royal-Clock-Tower-Hotel_hgxcz78"/>
          <p:cNvPicPr/>
          <p:nvPr/>
        </p:nvPicPr>
        <p:blipFill>
          <a:blip r:embed="rId1"/>
          <a:stretch/>
        </p:blipFill>
        <p:spPr>
          <a:xfrm>
            <a:off x="395640" y="2061000"/>
            <a:ext cx="4608000" cy="4320000"/>
          </a:xfrm>
          <a:prstGeom prst="rect">
            <a:avLst/>
          </a:prstGeom>
          <a:ln w="9525">
            <a:noFill/>
          </a:ln>
        </p:spPr>
      </p:pic>
      <p:sp>
        <p:nvSpPr>
          <p:cNvPr id="84" name="TextBox 2"/>
          <p:cNvSpPr/>
          <p:nvPr/>
        </p:nvSpPr>
        <p:spPr>
          <a:xfrm>
            <a:off x="5220000" y="2061000"/>
            <a:ext cx="3672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ндиозное строение «Королевская часовая башня» — часть комплекса зданий Абрадж Аль-Бейт, построенных в Мекке, в Саудовской Арав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оительство комплекса продолжалось в течении 8 лет и было полностью завершено в 2012 году. Во время строительства произошли два крупных пожара, в которых по счастливой случайности никто не пострад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Королевскую часовую башню» видно на расстоянии 20 км, а её часы считаются самыми высокими в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8720" cy="9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2. Шанхайская башня –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Шанхай, Китай.  Высота 632 метра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4" descr="Shanghai-Tower_uuetr45"/>
          <p:cNvPicPr/>
          <p:nvPr/>
        </p:nvPicPr>
        <p:blipFill>
          <a:blip r:embed="rId1"/>
          <a:stretch/>
        </p:blipFill>
        <p:spPr>
          <a:xfrm>
            <a:off x="3996000" y="1917000"/>
            <a:ext cx="4788000" cy="4536000"/>
          </a:xfrm>
          <a:prstGeom prst="rect">
            <a:avLst/>
          </a:prstGeom>
          <a:ln w="9525">
            <a:noFill/>
          </a:ln>
        </p:spPr>
      </p:pic>
      <p:sp>
        <p:nvSpPr>
          <p:cNvPr id="87" name="TextBox 2"/>
          <p:cNvSpPr/>
          <p:nvPr/>
        </p:nvSpPr>
        <p:spPr>
          <a:xfrm>
            <a:off x="323640" y="2349000"/>
            <a:ext cx="338400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т небоскрёб – самый высокий в Азии и занимает второе место в списке самых высоких зданий в мире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оительство Шанхайской башни началось в 2008 году и было полностью завершено в 201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оимость небоскрёба составила более 4,2 миллиарда долла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640" y="188640"/>
            <a:ext cx="8640720" cy="14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1. Бурдж-Халифа — Дубай, Объединенные Арабские Эмираты. Высота 828 метров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4" descr="Samye_visokie_zdaniy"/>
          <p:cNvPicPr/>
          <p:nvPr/>
        </p:nvPicPr>
        <p:blipFill>
          <a:blip r:embed="rId1"/>
          <a:stretch/>
        </p:blipFill>
        <p:spPr>
          <a:xfrm>
            <a:off x="323640" y="1917000"/>
            <a:ext cx="3312000" cy="4824000"/>
          </a:xfrm>
          <a:prstGeom prst="rect">
            <a:avLst/>
          </a:prstGeom>
          <a:ln w="9525">
            <a:noFill/>
          </a:ln>
        </p:spPr>
      </p:pic>
      <p:sp>
        <p:nvSpPr>
          <p:cNvPr id="90" name="TextBox 2"/>
          <p:cNvSpPr/>
          <p:nvPr/>
        </p:nvSpPr>
        <p:spPr>
          <a:xfrm>
            <a:off x="3852000" y="1845000"/>
            <a:ext cx="5112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ое высокое здание в мире – монументальный небоскрёб Бурдж-Халифа, возвышающийся на высоту 828 метров. Строительство здания началось в 2004 году и было полностью завершено в 2010 го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рдж-Халифа имеет 163 этажа, большинство из которых заняты офисными помещениями, гостиницами и ресторанами, несколько этажей отведены под жилые кварти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оимость проекта обошлась застройщику –компании Emaar в 1,5 миллиарда долларов, которые окупились буквально в первый год, после официальной сдачи здания в эксплуат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обенной популярностью в Бурдж-Халифа пользуется смотровая площадка, и чтобы попасть на неё билеты покупают заранее, за несколько дней до посе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67640" y="548640"/>
            <a:ext cx="828072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just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ческую природу невозможно изменить, люди всегда пытались превзойти собственные достижения и поставить новые рекорды в абсолютно любой сфере своей деятельност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Так и в архитектуре, в попытках покорить пределы высоты, люди возводят самые высокие здания в мире. С развитием технологий, изобретением современных композитных материалов и созданием принципиально новых конструкций строений, только в последние 25 лет стало возможно строительство высочайших зданий на планете, при виде которых просто захватывает дух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Вашему вниманию представлены 15 самых высоких зданий в мире, которые поражают воображение всех их увидевш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08640"/>
            <a:ext cx="777204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15. Международный финансовый центр – Гонконг.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ысота 415 метров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4" descr="samye_vysokie_zdaniy_v_mire"/>
          <p:cNvPicPr/>
          <p:nvPr/>
        </p:nvPicPr>
        <p:blipFill>
          <a:blip r:embed="rId1"/>
          <a:stretch/>
        </p:blipFill>
        <p:spPr>
          <a:xfrm>
            <a:off x="685800" y="2205000"/>
            <a:ext cx="4320000" cy="4176000"/>
          </a:xfrm>
          <a:prstGeom prst="rect">
            <a:avLst/>
          </a:prstGeom>
          <a:ln w="9525">
            <a:noFill/>
          </a:ln>
        </p:spPr>
      </p:pic>
      <p:sp>
        <p:nvSpPr>
          <p:cNvPr id="48" name="TextBox 6"/>
          <p:cNvSpPr/>
          <p:nvPr/>
        </p:nvSpPr>
        <p:spPr>
          <a:xfrm>
            <a:off x="5148000" y="2061000"/>
            <a:ext cx="352800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оительство международного финансового центра в Гонконге было завершено в 2003 году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дание полностью коммерческое, здесь нет гостиниц и жилых квартир, а находятся только офисы различных компани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88-этажный небоскрёб является шестым по высоте зданием в Китае и это одно из немногих сооружений, где установлены двухъярусные лиф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640" y="332640"/>
            <a:ext cx="8424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14. Башня Цзинь Мао – Китай, Шанхай. Высота 421 метр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Jin-Mao-Tower_vysokoe_zdanie"/>
          <p:cNvPicPr/>
          <p:nvPr/>
        </p:nvPicPr>
        <p:blipFill>
          <a:blip r:embed="rId1"/>
          <a:stretch/>
        </p:blipFill>
        <p:spPr>
          <a:xfrm>
            <a:off x="4884120" y="1556640"/>
            <a:ext cx="3744000" cy="4896360"/>
          </a:xfrm>
          <a:prstGeom prst="rect">
            <a:avLst/>
          </a:prstGeom>
          <a:ln w="9525">
            <a:noFill/>
          </a:ln>
        </p:spPr>
      </p:pic>
      <p:sp>
        <p:nvSpPr>
          <p:cNvPr id="51" name="TextBox 2"/>
          <p:cNvSpPr/>
          <p:nvPr/>
        </p:nvSpPr>
        <p:spPr>
          <a:xfrm>
            <a:off x="678240" y="1225800"/>
            <a:ext cx="3888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фициальная церемония открытия башни Цзинь Мао в Шанхае состоялась в 1999 году, стоимость строительства составила более 550 миллионов долла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ьшинство помещений здания офисные, также есть торговые центры, рестораны, ночные клубы и смотровая площадка, откуда открывается шикарный вид на Шанх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ее 30 этажей здания арендует крупнейший отель «Grand Hyatt», и цены здесь вполне демократичные доступные туристу со средним достат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640" y="1196640"/>
            <a:ext cx="84967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6000"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13. Международный отель и башня Трампа – Чикаго (США). 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ысота 423 метра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samye_vysokie_zdaniy_v_mire1"/>
          <p:cNvPicPr/>
          <p:nvPr/>
        </p:nvPicPr>
        <p:blipFill>
          <a:blip r:embed="rId1"/>
          <a:stretch/>
        </p:blipFill>
        <p:spPr>
          <a:xfrm>
            <a:off x="4788000" y="1441080"/>
            <a:ext cx="3672000" cy="5040360"/>
          </a:xfrm>
          <a:prstGeom prst="rect">
            <a:avLst/>
          </a:prstGeom>
          <a:ln w="9525">
            <a:noFill/>
          </a:ln>
        </p:spPr>
      </p:pic>
      <p:sp>
        <p:nvSpPr>
          <p:cNvPr id="54" name="TextBox 3"/>
          <p:cNvSpPr/>
          <p:nvPr/>
        </p:nvSpPr>
        <p:spPr>
          <a:xfrm>
            <a:off x="539640" y="2133000"/>
            <a:ext cx="388800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ашня Трампа была построена в 2009 году и обошлась владельцу в 847 миллионов долла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здании 92 этажа, из которых с 3 по 12 этаж занимают бутики и различные магазины, на 14 этаже располагается шикарный спа-салон, на 16 этаже находится элитный ресторан Sixteen. С 17 по 21 этажи занимает отель, выше идут пентхаусы и частные жилые кварти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640" y="1052640"/>
            <a:ext cx="8640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2000"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12. Международный финансовый центр Гуанчжоу – Китай, Гуанчжоу. Высота – 437 метров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Guangzhou-International-Finance-Center_12hhg"/>
          <p:cNvPicPr/>
          <p:nvPr/>
        </p:nvPicPr>
        <p:blipFill>
          <a:blip r:embed="rId1"/>
          <a:stretch/>
        </p:blipFill>
        <p:spPr>
          <a:xfrm>
            <a:off x="5292000" y="1597680"/>
            <a:ext cx="3456000" cy="4995720"/>
          </a:xfrm>
          <a:prstGeom prst="rect">
            <a:avLst/>
          </a:prstGeom>
          <a:ln w="9525">
            <a:noFill/>
          </a:ln>
        </p:spPr>
      </p:pic>
      <p:sp>
        <p:nvSpPr>
          <p:cNvPr id="57" name="TextBox 5"/>
          <p:cNvSpPr/>
          <p:nvPr/>
        </p:nvSpPr>
        <p:spPr>
          <a:xfrm>
            <a:off x="323640" y="2349000"/>
            <a:ext cx="475200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т высочайший небоскрёб был построен в 2010 году и имеет 103 этажа, является западной частью комплекса башен-близнецов Гуанчжоу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Стоимость постройки здания составила 280 миллионов долларов, большую часть строения занимают офисные помещения, вплоть до 70 этажа. С 70 по 98 этаж занимает пятизвездочная гостиница «Four Seasons», и на последних этажах расположились кафе, рестораны и смотровая площадка. На 103 этаже находится вертолётная площа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640" y="260640"/>
            <a:ext cx="6984360" cy="194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11. КК 100 – Шеньчжень,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Китай. Высота – 442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метра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KK100_samye_visokie_zdaniy_v_mire"/>
          <p:cNvPicPr/>
          <p:nvPr/>
        </p:nvPicPr>
        <p:blipFill>
          <a:blip r:embed="rId1"/>
          <a:stretch/>
        </p:blipFill>
        <p:spPr>
          <a:xfrm>
            <a:off x="5292000" y="620640"/>
            <a:ext cx="3600000" cy="5904360"/>
          </a:xfrm>
          <a:prstGeom prst="rect">
            <a:avLst/>
          </a:prstGeom>
          <a:ln w="9525">
            <a:noFill/>
          </a:ln>
        </p:spPr>
      </p:pic>
      <p:sp>
        <p:nvSpPr>
          <p:cNvPr id="60" name="TextBox 3"/>
          <p:cNvSpPr/>
          <p:nvPr/>
        </p:nvSpPr>
        <p:spPr>
          <a:xfrm>
            <a:off x="251640" y="1943280"/>
            <a:ext cx="475200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боскрёб КК 100, также известный под названием Кингки 100, был воздвигнут в 2011 году и находится в городе Шеньчж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многофункциональное здание построено в стиле модернизма и большинство помещений в нём офисного назначе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23 этажа этого одного из самых высоких зданий в мире занимает шестизвёздочный бизнес-отель премиум класса «St. Regis Hotel», есть также несколько шикарных ресторанов, красивый сад и первый построенный в Азии кинотеатр IM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880" y="476640"/>
            <a:ext cx="885672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10. Уиллис – Тауэр - Чикаго, США.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ысота 443 метра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Willis-Tower_uuert"/>
          <p:cNvPicPr/>
          <p:nvPr/>
        </p:nvPicPr>
        <p:blipFill>
          <a:blip r:embed="rId1"/>
          <a:srcRect l="16378" t="1500" r="12598" b="1500"/>
          <a:stretch/>
        </p:blipFill>
        <p:spPr>
          <a:xfrm>
            <a:off x="323640" y="1128960"/>
            <a:ext cx="3663000" cy="5540040"/>
          </a:xfrm>
          <a:prstGeom prst="rect">
            <a:avLst/>
          </a:prstGeom>
          <a:ln w="9525">
            <a:noFill/>
          </a:ln>
        </p:spPr>
      </p:pic>
      <p:sp>
        <p:nvSpPr>
          <p:cNvPr id="63" name="TextBox 2"/>
          <p:cNvSpPr/>
          <p:nvPr/>
        </p:nvSpPr>
        <p:spPr>
          <a:xfrm>
            <a:off x="4140000" y="1313280"/>
            <a:ext cx="468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боскрёб Уиллис-Тауэр, ранее известный как Сирс-тауэр, возвышается в высоту на 443 метра и является единственным зданием в этом рейтинге, построенным до 1998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оительство небоскрёба началось в 1970 году и было полностью завершено в 1973 году. Стоимость проекта составила более 150 миллионов долларов по ценам т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окончания строительства, Уиллис-Тауэр прочно занял статус самого высокого здания в мире на целых 25 лет. На данный момент, в списке самых высоких зданий небоскреб находится на 10 строчке спи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640" y="260640"/>
            <a:ext cx="8784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9. Башня Зифенг – Нанкин, Китай. Высота 450 метров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4" descr="Zifeng-Tower_ttrbnv"/>
          <p:cNvPicPr/>
          <p:nvPr/>
        </p:nvPicPr>
        <p:blipFill>
          <a:blip r:embed="rId1"/>
          <a:srcRect l="9449" t="0" r="0" b="0"/>
          <a:stretch/>
        </p:blipFill>
        <p:spPr>
          <a:xfrm>
            <a:off x="5415480" y="1196640"/>
            <a:ext cx="3528000" cy="5544360"/>
          </a:xfrm>
          <a:prstGeom prst="rect">
            <a:avLst/>
          </a:prstGeom>
          <a:ln w="9525">
            <a:noFill/>
          </a:ln>
        </p:spPr>
      </p:pic>
      <p:sp>
        <p:nvSpPr>
          <p:cNvPr id="66" name="TextBox 2"/>
          <p:cNvSpPr/>
          <p:nvPr/>
        </p:nvSpPr>
        <p:spPr>
          <a:xfrm>
            <a:off x="539640" y="1412640"/>
            <a:ext cx="468000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оительство 89-этажного небоскрёба началось в 2005 году и было завершено в 200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здание многофункциональное, здесь есть офисные помещения, рестораны, кафе и гостини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верхнем этаже расположена смотровая площад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же в баше Зифенг построено 54 грузовых подъемника и пассажирских лиф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315</TotalTime>
  <Application>LibreOffice/7.4.7.2$Linux_X86_64 LibreOffice_project/40$Build-2</Application>
  <AppVersion>15.0000</AppVersion>
  <Words>960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6T11:07:52Z</dcterms:created>
  <dc:creator>Игорь</dc:creator>
  <dc:description/>
  <dc:language>en-US</dc:language>
  <cp:lastModifiedBy>natmax12@yandex.ru</cp:lastModifiedBy>
  <dcterms:modified xsi:type="dcterms:W3CDTF">2024-06-12T22:39:17Z</dcterms:modified>
  <cp:revision>24</cp:revision>
  <dc:subject/>
  <dc:title>15 самых высоких зданий в ми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