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4F75-FF52-4D0E-8EF1-BAE27D0EC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16DA-3D8F-4705-B7FB-34535ED47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4F88-9B92-4A29-ACF5-44BE1A6B7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105B-E9F2-426B-82B0-D0BBE7BA8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8171-0756-4240-8002-973B32035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2470-28B5-4696-8C52-F97B2A614C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495FD-7AF7-4AC5-BD63-119910761C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392B-F30C-4D70-A861-CA4FFB6E06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208E-EC50-4C1B-9FD7-074A51A1D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E20DC-2EF7-4537-8F63-AE44BC1827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8A55-E885-4CD1-AA8F-D4A2345EE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6D88-4521-4C8C-A3B6-3C04D284C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26BF-58FC-4467-9AE8-1037D1F93F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EE2E-57EE-4B8B-99D6-BF60E8A2E1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8E4C-0EC8-48A1-8204-6DE31D232E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ECED8-BF75-4223-8447-403462F9D5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8369-D438-43B4-817B-17D977EDF9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43C0-68FE-4D0B-9AB7-814310337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BAB9-2CA3-4A99-838A-AAC209B82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6B3A-2EDD-49CA-B790-4C0BE522B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C582-5483-42A0-8808-3530DB1F7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FD9C-B961-48C1-A749-8B3FF4C50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2829-0A6C-4F41-B522-B18DA698E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2995-4DC3-40DC-A35F-26E8751B6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4760"/>
            <a:chOff x="0" y="0"/>
            <a:chExt cx="9142560" cy="68547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39320" cy="51944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2800" cy="51465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08720" cy="3013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29160" cy="10152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3120" cy="5205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4760" cy="15876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4080" cy="31284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3440" cy="5508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89520" cy="4363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7320" cy="59868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4160" cy="3794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3360" cy="265104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4160" cy="5032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3360" cy="34704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3360" cy="432432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1200" cy="4730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4600" cy="5302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0000" cy="424980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8080" cy="20808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89520" cy="402120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7680" cy="393552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1760" cy="1508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4440" cy="8175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8280" cy="165276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39640" cy="126216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3600" cy="49212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29600" cy="29574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7920" cy="7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29600" cy="21207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29600" cy="65556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4000" cy="50418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0640" cy="41482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2360" cy="39099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58760" cy="32907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1200" cy="30718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5440" cy="23590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39320" cy="2948040"/>
              <a:chOff x="0" y="2590920"/>
              <a:chExt cx="9139320" cy="294804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4440" cy="20826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1240" cy="110196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CD7ACF-BDEC-4991-87D5-099D85F7150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2560" cy="6854760"/>
            <a:chOff x="0" y="0"/>
            <a:chExt cx="9142560" cy="68547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39320" cy="51944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2800" cy="51465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08720" cy="3013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29160" cy="10152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3120" cy="5205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4760" cy="15876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4080" cy="31284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3440" cy="5508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89520" cy="4363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7320" cy="59868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4160" cy="3794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3360" cy="265104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4160" cy="5032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3360" cy="34704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3360" cy="432432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1200" cy="4730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4600" cy="5302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0000" cy="424980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8080" cy="20808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89520" cy="402120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7680" cy="393552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1760" cy="15084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4440" cy="8175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8280" cy="165276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39640" cy="126216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3600" cy="49212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29600" cy="29574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7920" cy="7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29600" cy="21207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29600" cy="65556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4000" cy="50418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0640" cy="41482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2360" cy="39099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58760" cy="32907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1200" cy="307188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5440" cy="23590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39320" cy="2948040"/>
              <a:chOff x="0" y="2590920"/>
              <a:chExt cx="9139320" cy="29480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4440" cy="20826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1240" cy="110196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4729F4-4390-4275-BC25-37D0EFFB02A7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90720" y="2057400"/>
            <a:ext cx="7885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ЖЕНЕРНЫЕ СОРЕВНОВАНИЯ</a:t>
            </a:r>
            <a:br>
              <a:rPr sz="2800"/>
            </a:br>
            <a:br>
              <a:rPr sz="28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ма: «Задача о семи мостах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40464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52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БОУ СОШ №19 г.Сызрани Сама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ьная профильная смена «Лаборатория будущих профессионал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152280"/>
            <a:ext cx="82296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SzPct val="105986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стория возникновения теории графов. </a:t>
            </a:r>
            <a:br>
              <a:rPr sz="1800"/>
            </a:br>
            <a:r>
              <a:rPr b="0" i="1" lang="ru-RU" sz="1800" spc="-1" strike="noStrike">
                <a:solidFill>
                  <a:srgbClr val="d6e0ff"/>
                </a:solidFill>
                <a:latin typeface="Arial"/>
              </a:rPr>
              <a:t>«</a:t>
            </a:r>
            <a:r>
              <a:rPr b="0" i="1" lang="ru-RU" sz="2100" spc="-1" strike="noStrike">
                <a:solidFill>
                  <a:srgbClr val="d6e0ff"/>
                </a:solidFill>
                <a:latin typeface="Arial"/>
              </a:rPr>
              <a:t>Некогда мне была предложена задача об острове, расположенном в городе Кенигсберге и окруженном рекой, через которую перекинуто семь мостов. Спрашивается, может ли кто-нибудь непрерывно обойти их, проходя только однажды через каждый мост. И тут же мне было сообщено, что никто еще до сих пор не мог это проделать, но никто и не доказал, что это невозможно. Вопрос этот, хотя и банальный, показался мне, однако, достойным внимания тем, что для его решения недостаточны ни геометрия, ни алгебра, ни комбинаторное искусство... После долгих размышлений я нашел легкое правило, основанное на вполне убедительном доказательстве, с помощью которого можно во всех задачах такого рода тотчас же определить, может ли быть совершен такой обход через какое угодно число и как угодно расположенных мостов или не может. …»</a:t>
            </a:r>
            <a:br>
              <a:rPr sz="2100"/>
            </a:br>
            <a:br>
              <a:rPr sz="1800"/>
            </a:br>
            <a:r>
              <a:rPr b="0" i="1" lang="ru-RU" sz="1800" spc="-1" strike="noStrike">
                <a:solidFill>
                  <a:srgbClr val="d6e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648320" y="152280"/>
            <a:ext cx="403848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йлер вычислял без всякого видимого усилия, как человек дышит или как орёл парит над землё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оминик Ара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106640" cy="1371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648320" y="2057400"/>
            <a:ext cx="4343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Леонард Эйлер (1707-1783)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математик, механик, физик и астроном. Он автор более 850 трудов по механике, теории движения Луны и планет, по географии, по теории кораблестроения, теории музыки и другим нау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3886200" cy="5551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05320" y="533520"/>
            <a:ext cx="54100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онард Эйлер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ин из величайших математиков всех времён и народов. Основоположник теории чисел и теории графов, один из основоположников математической физики и комплексного анализа, создатель первых методов численного решения дифференциальных уравнений. Гений аналитических преобразований, отыскавший множество способов решения и упрощения самых разных задач дифференциального и интегрального исчисления. Открыватель потрясающих по красоте законов, связывающих между собой разные области математики. Книги Эйлера отличаются чрезвычайной ясностью и наглядностью, они ничуть не устарели и сегод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257280" cy="403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2280" y="533520"/>
            <a:ext cx="43434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ь мостов города Кенингсбе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ейчас этот город называется Калининград) стали «виновниками» создания Леонардом Эйлером теории граф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 – это определенное количество узлов (вершин), соединённых рёбрами. Изящная по своей конкретности задача семи мостов Кёнигсберга была сформулирован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йлером в 1759 г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ледующим образом: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"как пройти по семи мостам, не проходя по одному дважды".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4267080" cy="5105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876920" y="914400"/>
            <a:ext cx="4038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ешения этой задачи Эйлер вводит понятие «графа» как множества непересекающихся рёбер или связей, соединяющих пары верш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9528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 выглядит этот граф, если наложить вершины и связи на карту центра го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38480" cy="446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о семи мост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43000" y="1681200"/>
            <a:ext cx="7010280" cy="433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еория граф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1295280"/>
            <a:ext cx="82296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ая работа по теории графов принадлежит Леонарду Эйлеру (1736), хотя термин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первые ввёл в 1736 году венгерский математик Денеш Кё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рафы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– схемы, состоящие из точек и соединяющих эти точки отрезков прямых или кри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оч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- вершины графа; линии, которые соединяют вершины - рёбра граф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6781680" cy="2057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762120"/>
            <a:ext cx="4495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ф с двумя нечетными вершинами тоже можно начертить одним росчерком. Движение надо начинать от любой нечётной вершины, а заканчивать на другой нечётной верш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3028680" cy="25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44197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ф с более чем двумя нечётными вершинами невозможно начертить одним росчер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05520" y="4575240"/>
            <a:ext cx="290484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394164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вершины в нашей сети соединяют 3 или 5 связе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ни неправильные. Поэтому, непрерывной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рожки Эйлера», которая проходит через каждую вершину только единожды для этого числа не существу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383868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545680" cy="2209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3276720"/>
            <a:ext cx="8305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рассматривать данное правило к 7 мостам Кенингсберга, то части города на рисунке (графе) обозначаются вершинами, а мосты – ребрами, соединяющими данные вершины. Граф 7 кёнигсбергских мостов имел 4 нечётные вершины (то есть все, его вершины были нечетные), следовательно, невозможно пройти по всем 7 мостам, не проходя ни по одному из них дважды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о семи мостах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96440" cy="480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менение теории граф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057400"/>
            <a:ext cx="8077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залось бы, у такого необычного открытия не может быть никакого реального применения и практической пользы. Но применение нашлось, и еще какое. Теория графов, созданная Леонардом Эйлером, легла в основу проектирования коммуникационных и транспортных систем, она используется в программировании  и информатике, в физике, химии и многих других науках и област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о самое интересное в том, что историки считают, что есть человек, который решил данную задачу, он смог пройти через все мосты только один раз, правда теоретически, но решение было…. А произошло это вот как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йзер (император) Вильгельм славился своей простотой мышления, прямотой и солдатской «недалёкостью». Однажды, находясь на светском рауте, он чуть не стал жертвой шутки, которую с ним решили сыграть учёные умы, присутствующие на данном приёме. Они показали кайзеру карту города Кёнигсберга, и попросили его попробовать решить эту знаменитую задачку, которая по определению была просто не решаемой. К всеобщему удивлению, Кайзер попросил лист бумаги и перо, и при этом уточнил, что решит данную задачку всего за полторы минуты. Ошеломлённые ученные не могли поверить своим ушам, но чернила и бумагу быстро нашли для него. Кайзер положил листок на стол, взял перо, и написал: «Приказываю построить восьмой мост на острове Ломзе». И все задача решен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в городе Кёнигсберг и появился новый 8 мост через реку, который так и назвали — мост Кайзера. А задачку с 8 мостами теперь может решить даже ребёно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именение теории графов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химии (для описания структур, путей сложных реакций, правило фаз также может быть интерпретировано как задача теории графов); компьютерная химия — сравнительно молодая область химии, основанная на применении теории графов. Теория графов представляет собой математическую основу хемоинформатики. Теория графов позволяет точно определить число теоретически возможных изомеров у углеводородов и других органических соедин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SzPct val="18541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информатике и программировании (граф-схема алгоритм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SzPct val="18541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оммуникационных и транспортных системах. В частности, для маршрутизации данных в Интерне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SzPct val="18541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экономи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SzPct val="18541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логисти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хемотехнике (топология межсоединений элементов на печатной плате или микросхеме представляет собой граф или гиперграф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о семи мост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947960"/>
            <a:ext cx="8292960" cy="3846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о семи мостах </a:t>
            </a:r>
            <a:br>
              <a:rPr sz="4400"/>
            </a:b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Лавочный мо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62012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о семи мостах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Рабочий мо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95280" y="1846440"/>
            <a:ext cx="6782040" cy="424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о семи мостах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Кузнечный мо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26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о семи мостах</a:t>
            </a:r>
            <a:br>
              <a:rPr sz="4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ревянный м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4259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о семи мостах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Высокий мо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о семи мостах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Медовый мос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00200" y="1562040"/>
            <a:ext cx="6022800" cy="4700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ша</dc:creator>
  <dc:description/>
  <dc:language>en-US</dc:language>
  <cp:lastModifiedBy>User</cp:lastModifiedBy>
  <dcterms:modified xsi:type="dcterms:W3CDTF">2024-06-14T18:42:2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